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16.png" ContentType="image/png"/>
  <Override PartName="/ppt/media/image15.wmf" ContentType="image/x-wmf"/>
  <Override PartName="/ppt/media/image1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335-AEAA-46FC-964E-E0AECBDF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81A-766B-486B-8B72-1A7B5B3D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547-37B7-4951-9C11-2E94695E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6F6-7AEE-493D-8B3E-01A4839E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6E23-73CC-45BB-8CAD-03D98B68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33F8-EC04-4F20-9E63-693EB7E9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120D-E731-4BA3-AE2F-0E8E8D07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4BDE-0343-40D8-BD6E-489DEFF5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316D-6950-4458-8B55-23A57EB5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0F86-C8DA-4864-9F8C-219AA990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7B7D-D3E4-4EBB-A084-78F9DD28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B08-D618-4246-AFC6-ABFF3379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EBCB-EA47-4C0E-8C6E-5D597DCC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25BD-1CE0-40F5-BB73-2AA6D841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D4DB-8C23-42AB-84E8-B426526F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AAB5-083D-4A4B-915A-057870BB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9FF3-4352-47ED-AD1D-18B76E12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35D34-955C-4818-8B45-7C08ED7C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E727E-D1F7-4E98-9AED-A8765344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026A2-B980-4A5C-9AA2-E2DF9E59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E72B4-1FE8-482F-BADE-07E97DBD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34510-CFC4-4DA6-9647-5A1FB20D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21C-8D59-4656-966B-FF8C2DFF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D98F1-A004-4D6D-82B3-CE7DDE4D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97E8A-7AC7-4C62-870C-8FABE085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42EF2-19BA-42DD-B6E1-9BD3B56C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84D13-F09F-447F-BEE3-EF4EF1D4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D235C4-75DD-48C2-AEF6-859E1187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25154-5482-4267-BC62-B3153750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939C8-945A-48C1-8331-24D67E91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BCEE-EDE7-44A2-9ADA-13BCA654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4FE3C-465B-482A-8F28-683A6B6A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03B26-0F43-4FE6-A3EF-1450107F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971-2134-404C-AD44-1DADD26E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B27C1-B3AA-49D0-B346-C7D61E3E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D9035-D00C-4E67-A172-3E09C3C6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D9738-4ED1-4B30-B3D5-77A75C14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37E0B-A88E-492F-91A6-F2B364DC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7C34B-F8DB-472C-99AD-CC7F3AED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C0C8A-8CE9-48EA-A502-A2E5B45C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7E700-901A-4A4F-A098-B0819100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BB00A-9AA8-452B-A462-F9494FB0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71890-F0BA-44A2-B603-E90F7435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2D44C-31F2-40DC-8D98-37384DD1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785-7E1E-4C5F-B924-0B2601D3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2B1DD1-439B-4969-B7A7-1DE350E8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796F58-7BC5-4FED-A455-DE3613C7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B6489-F596-444F-A237-52BB30CC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A4E46-28E4-4D03-BF17-0D1CEAF1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77473-848F-4002-8FB7-E53F32C9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6C39F-5804-44EC-9C9F-FF93571D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FF51A6-01E4-48A7-8563-6D9846BD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194BE-D5D2-40B7-8196-423E1341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10C7A9-2532-4FFC-A274-04FC3F5A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A0A65-3DC6-42F7-9270-9EA71E0A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B3B-B7A9-4E2D-9244-28DE9555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0AF1E-66AE-4A01-9BFC-3B930891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2FC6E-B5D5-4C38-9BC2-D903A049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7CEFF3-555D-45AF-AE7A-50324B5F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E3B84-FFAD-46B1-A00E-0CE4BC0A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C5A8B-2499-4A1D-845F-6A007E86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AD9DB-7A11-4E94-B8B4-8FA36340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0FBD03-5937-46C2-BE08-D6C1BE9D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67DFF3-9FCA-4268-ACC0-DF4AAC90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B79F0-B890-47E9-8E85-58998655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36F34D-44C7-41A4-8983-58F80ABC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9AB-C496-457E-B375-AE74BD7A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2D799-81B4-44B4-8CD5-33923F13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2CBDA-5FB1-48CC-9D73-5E6E2D77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7CF91-3C62-45E8-BB59-36361FAB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CAAC7-86CC-4319-9A37-7DFD0276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5C9F0-A859-4CF2-AA1B-91D46444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7A4BA5-2E76-488B-A01B-E47922B1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3128B-BB26-4FE3-9A70-6086E7E0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64C45-8DD5-464F-A87D-712E534C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4D90E-FA77-4D26-8A21-5B2A6A82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6D8C9-F2D4-4B14-A121-95CD79BD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44C-B2B4-456C-9EBA-74683C10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9A313-8BBA-4DDA-88CB-E28DF2E6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A279B-A87C-4724-9202-CE04ACEC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DE10A-376E-4F51-B2EA-1CF687AC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56B54-5F5D-46AA-887A-656BF8B1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60BEE-81B7-40ED-85D7-9313FFAE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B6E-B8CB-4BDF-B44B-17425C9D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E4DC-6749-49C0-8C74-B8B67FEAC6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D799-796B-444B-89B7-3BCF5D91D2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FF33-5CD2-4D3B-B9DF-2AE4ED3B43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1C64-62D9-402C-AC89-A17DB39635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8A1B-E59E-46B8-A98A-B56E1C5738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39B2-ACAA-4CFA-953A-99D398831A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6C18-09BE-4108-B1B1-20A2754F44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ordle.net/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andyrodgers.edublogs.org/?p=475&amp;preview=true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6666"/>
                </a:solidFill>
                <a:latin typeface="Century Schoolbook"/>
              </a:rPr>
              <a:t>    </a:t>
            </a:r>
            <a:r>
              <a:rPr b="1" lang="en-US" sz="6000" spc="-1" strike="noStrike">
                <a:solidFill>
                  <a:srgbClr val="666666"/>
                </a:solidFill>
                <a:latin typeface="Century Schoolbook"/>
              </a:rPr>
              <a:t>PLEASE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Log onto a comput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Log onto your email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Accept the invitations from Wikispaces from kshoemaker and from wtownschool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f it doesn’t allow you to create a profile, try again with a different username.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C:\Program Files\Microsoft Office\MEDIA\CAGCAT10\j0230876.wmf"/>
          <p:cNvPicPr/>
          <p:nvPr/>
        </p:nvPicPr>
        <p:blipFill>
          <a:blip r:embed="rId1"/>
          <a:stretch/>
        </p:blipFill>
        <p:spPr>
          <a:xfrm>
            <a:off x="304920" y="0"/>
            <a:ext cx="1406520" cy="14176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Program Files\Microsoft Office\MEDIA\CAGCAT10\j0230876.wmf"/>
          <p:cNvPicPr/>
          <p:nvPr/>
        </p:nvPicPr>
        <p:blipFill>
          <a:blip r:embed="rId2"/>
          <a:stretch/>
        </p:blipFill>
        <p:spPr>
          <a:xfrm>
            <a:off x="7315200" y="0"/>
            <a:ext cx="14065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-4572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0062"/>
                </a:solidFill>
                <a:latin typeface="Century Schoolbook"/>
              </a:rPr>
              <a:t>CHETL-SECTION 4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09480" y="12952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already “evaluated” yourself on the characteristics outline in Section 4 of the CHETL document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table, use the index card provided and tally the  number of stars and triangles for each characteristi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4" descr="C:\Users\mmiddleton.WILLIAMSTOWN\AppData\Local\Microsoft\Windows\Temporary Internet Files\Content.IE5\8N4TJ71I\MC900353814[1].wmf"/>
          <p:cNvPicPr/>
          <p:nvPr/>
        </p:nvPicPr>
        <p:blipFill>
          <a:blip r:embed="rId1"/>
          <a:stretch/>
        </p:blipFill>
        <p:spPr>
          <a:xfrm>
            <a:off x="7010280" y="0"/>
            <a:ext cx="1817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bd8"/>
                </a:solidFill>
                <a:latin typeface="Century Schoolbook"/>
              </a:rPr>
              <a:t>21</a:t>
            </a:r>
            <a:r>
              <a:rPr b="0" lang="en-US" sz="4400" spc="-1" strike="noStrike" baseline="30000">
                <a:solidFill>
                  <a:srgbClr val="ff2bd8"/>
                </a:solidFill>
                <a:latin typeface="Century Schoolbook"/>
              </a:rPr>
              <a:t>ST</a:t>
            </a:r>
            <a:r>
              <a:rPr b="0" lang="en-US" sz="4400" spc="-1" strike="noStrike">
                <a:solidFill>
                  <a:srgbClr val="ff2bd8"/>
                </a:solidFill>
                <a:latin typeface="Century Schoolbook"/>
              </a:rPr>
              <a:t> CENTURY LEARNING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049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“homework” you were asked to do a little research on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entury Skills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 a piece of paper, write down 5 or more skills students of the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entury need to hav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g on to </a:t>
            </a: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Schoolbook"/>
                <a:hlinkClick r:id="rId1"/>
              </a:rPr>
              <a:t>www.wordle.n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ve one person type in all of the words.  It is okay if words are repeated.   Print out your word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4" descr="C:\Users\mmiddleton.WILLIAMSTOWN\AppData\Local\Microsoft\Windows\Temporary Internet Files\Content.IE5\52FX9KK3\MC900361858[1].wmf"/>
          <p:cNvPicPr/>
          <p:nvPr/>
        </p:nvPicPr>
        <p:blipFill>
          <a:blip r:embed="rId2"/>
          <a:stretch/>
        </p:blipFill>
        <p:spPr>
          <a:xfrm>
            <a:off x="3886200" y="5257800"/>
            <a:ext cx="16002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5698"/>
                </a:solidFill>
                <a:latin typeface="Century Schoolbook"/>
              </a:rPr>
              <a:t>THE 4 C’S</a:t>
            </a:r>
            <a:endParaRPr b="0" lang="en-US" sz="8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331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Arial Narrow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Arial Narrow"/>
              </a:rPr>
              <a:t>Collabor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Arial Narrow"/>
              </a:rPr>
              <a:t>Creativity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0059"/>
                </a:solidFill>
                <a:latin typeface="Arial Narrow"/>
              </a:rPr>
              <a:t>Critical Thinking and Problem Solving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C:\Users\mmiddleton.WILLIAMSTOWN\AppData\Local\Microsoft\Windows\Temporary Internet Files\Content.IE5\3VD59Z7L\MC900030696[1].wmf"/>
          <p:cNvPicPr/>
          <p:nvPr/>
        </p:nvPicPr>
        <p:blipFill>
          <a:blip r:embed="rId1"/>
          <a:stretch/>
        </p:blipFill>
        <p:spPr>
          <a:xfrm>
            <a:off x="3352680" y="4800600"/>
            <a:ext cx="20131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40827"/>
                </a:solidFill>
                <a:latin typeface="Century Schoolbook"/>
              </a:rPr>
              <a:t>CHECK THIS OUT!!!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838080" y="19051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http://randyrodgers.edublogs.org/?p=475&amp;preview=tr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C:\Users\mmiddleton.WILLIAMSTOWN\AppData\Local\Microsoft\Windows\Temporary Internet Files\Content.IE5\6MS1V72I\MC900027276[1].wmf"/>
          <p:cNvPicPr/>
          <p:nvPr/>
        </p:nvPicPr>
        <p:blipFill>
          <a:blip r:embed="rId2"/>
          <a:stretch/>
        </p:blipFill>
        <p:spPr>
          <a:xfrm>
            <a:off x="3505320" y="4648320"/>
            <a:ext cx="205740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8eba"/>
                </a:solidFill>
                <a:latin typeface="Century Schoolbook"/>
              </a:rPr>
              <a:t>WELCOME TO THE WILLIAMSTOWN WIKI</a:t>
            </a:r>
            <a:endParaRPr b="0" lang="en-US" sz="5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0" name="TextBox 2"/>
          <p:cNvSpPr/>
          <p:nvPr/>
        </p:nvSpPr>
        <p:spPr>
          <a:xfrm>
            <a:off x="762120" y="30481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ake some time to check out this si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C:\Users\mmiddleton.WILLIAMSTOWN\AppData\Local\Microsoft\Windows\Temporary Internet Files\Content.IE5\3VD59Z7L\MC900436239[1].png"/>
          <p:cNvPicPr/>
          <p:nvPr/>
        </p:nvPicPr>
        <p:blipFill>
          <a:blip r:embed="rId1"/>
          <a:stretch/>
        </p:blipFill>
        <p:spPr>
          <a:xfrm>
            <a:off x="228600" y="4826160"/>
            <a:ext cx="21844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698"/>
                </a:solidFill>
                <a:latin typeface="Century Schoolbook"/>
              </a:rPr>
              <a:t>NEXT MEETING/</a:t>
            </a:r>
            <a:br>
              <a:rPr sz="4400"/>
            </a:br>
            <a:r>
              <a:rPr b="1" lang="en-US" sz="4400" spc="-1" strike="noStrike">
                <a:solidFill>
                  <a:srgbClr val="ff5698"/>
                </a:solidFill>
                <a:latin typeface="Century Schoolbook"/>
              </a:rPr>
              <a:t>HOMEWORK</a:t>
            </a:r>
            <a:endParaRPr b="0" lang="en-US" sz="4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447560"/>
            <a:ext cx="769608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ch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Pages 131-148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ategy 5:  Design Lessons to focus on one learning target or aspect of quality at a ti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ategy 6:  Teach students focused revi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TL Section 3  (Star and Triangle Activit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Something new with Technology.. Be ready to sha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4" descr="C:\Users\mmiddleton.WILLIAMSTOWN\AppData\Local\Microsoft\Windows\Temporary Internet Files\Content.IE5\6MS1V72I\MC900104354[1].wmf"/>
          <p:cNvPicPr/>
          <p:nvPr/>
        </p:nvPicPr>
        <p:blipFill>
          <a:blip r:embed="rId1"/>
          <a:stretch/>
        </p:blipFill>
        <p:spPr>
          <a:xfrm>
            <a:off x="3276720" y="4800600"/>
            <a:ext cx="18414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e0eb6"/>
                </a:solidFill>
                <a:latin typeface="Century Schoolbook"/>
              </a:rPr>
              <a:t>EVALUATION</a:t>
            </a:r>
            <a:endParaRPr b="0" lang="en-US" sz="6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lease fill out the evaluation, place it on the front table,  and have a pleasant evening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2" descr="C:\Users\mmiddleton.WILLIAMSTOWN\AppData\Local\Microsoft\Windows\Temporary Internet Files\Content.IE5\6MS1V72I\MC900436249[1].png"/>
          <p:cNvPicPr/>
          <p:nvPr/>
        </p:nvPicPr>
        <p:blipFill>
          <a:blip r:embed="rId1"/>
          <a:stretch/>
        </p:blipFill>
        <p:spPr>
          <a:xfrm>
            <a:off x="2057400" y="3200400"/>
            <a:ext cx="474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88c"/>
                </a:solidFill>
                <a:latin typeface="Century Schoolbook"/>
              </a:rPr>
              <a:t>WELCOME TO THE FUTURE</a:t>
            </a:r>
            <a:br>
              <a:rPr sz="3600"/>
            </a:br>
            <a:r>
              <a:rPr b="1" lang="en-US" sz="3600" spc="-1" strike="noStrike">
                <a:solidFill>
                  <a:srgbClr val="ff388c"/>
                </a:solidFill>
                <a:latin typeface="Century Schoolbook"/>
              </a:rPr>
              <a:t>SB 1 IMPLEMENTATION CONTINUES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56" name="Picture 4" descr="C:\Users\mmiddleton.WILLIAMSTOWN\AppData\Local\Microsoft\Windows\Temporary Internet Files\Content.IE5\6MS1V72I\MP900440916[1].jpg"/>
          <p:cNvPicPr/>
          <p:nvPr/>
        </p:nvPicPr>
        <p:blipFill>
          <a:blip r:embed="rId1"/>
          <a:stretch/>
        </p:blipFill>
        <p:spPr>
          <a:xfrm>
            <a:off x="152280" y="0"/>
            <a:ext cx="1422360" cy="1068480"/>
          </a:xfrm>
          <a:prstGeom prst="rect">
            <a:avLst/>
          </a:prstGeom>
          <a:ln w="0">
            <a:noFill/>
          </a:ln>
        </p:spPr>
      </p:pic>
      <p:pic>
        <p:nvPicPr>
          <p:cNvPr id="357" name="Intel commercial.wmv" descr=""/>
          <p:cNvPicPr/>
          <p:nvPr/>
        </p:nvPicPr>
        <p:blipFill>
          <a:blip r:embed="rId2"/>
          <a:stretch/>
        </p:blipFill>
        <p:spPr>
          <a:xfrm>
            <a:off x="1828800" y="177156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Century Schoolbook"/>
              </a:rPr>
              <a:t>    </a:t>
            </a:r>
            <a:r>
              <a:rPr b="1" lang="en-US" sz="3600" spc="-1" strike="noStrike">
                <a:solidFill>
                  <a:srgbClr val="666666"/>
                </a:solidFill>
                <a:latin typeface="Century Schoolbook"/>
              </a:rPr>
              <a:t>REVIEW OF 3 STRATEGIES </a:t>
            </a:r>
            <a:br>
              <a:rPr sz="2400"/>
            </a:br>
            <a:r>
              <a:rPr b="0" lang="en-US" sz="2400" spc="-1" strike="noStrike">
                <a:solidFill>
                  <a:srgbClr val="666666"/>
                </a:solidFill>
                <a:latin typeface="Century Schoolbook"/>
              </a:rPr>
              <a:t>     PROVIDING A CLEAR LEARNING TARGET</a:t>
            </a:r>
            <a:br>
              <a:rPr sz="2400"/>
            </a:br>
            <a:r>
              <a:rPr b="0" lang="en-US" sz="2400" spc="-1" strike="noStrike">
                <a:solidFill>
                  <a:srgbClr val="666666"/>
                </a:solidFill>
                <a:latin typeface="Century Schoolbook"/>
              </a:rPr>
              <a:t>USING EXAMPLES AND MODELS</a:t>
            </a:r>
            <a:br>
              <a:rPr sz="2400"/>
            </a:br>
            <a:r>
              <a:rPr b="0" lang="en-US" sz="2400" spc="-1" strike="noStrike">
                <a:solidFill>
                  <a:srgbClr val="666666"/>
                </a:solidFill>
                <a:latin typeface="Century Schoolbook"/>
              </a:rPr>
              <a:t>  OFFERING DESCRIPTIVE FEEDBACK</a:t>
            </a:r>
            <a:endParaRPr b="0" lang="en-US" sz="24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59" name="Mrs. Stanley2.wmv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STRATEGY 4:  TEACHING STUDENTS TO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SELF- ASSESS AND SET GOALS</a:t>
            </a: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920" y="198432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udents cannot self-assess if they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know the intended learning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examples of strong and weak wor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someone giving them descriptive feedback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the training in which to self asses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AGE 96:  First Paragraph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C:\Users\mmiddleton.WILLIAMSTOWN\AppData\Local\Microsoft\Windows\Temporary Internet Files\Content.IE5\6MS1V72I\MC900020782[1].wmf"/>
          <p:cNvPicPr/>
          <p:nvPr/>
        </p:nvPicPr>
        <p:blipFill>
          <a:blip r:embed="rId1"/>
          <a:stretch/>
        </p:blipFill>
        <p:spPr>
          <a:xfrm>
            <a:off x="380880" y="5486400"/>
            <a:ext cx="109692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e0eb6"/>
                </a:solidFill>
                <a:latin typeface="Century Schoolbook"/>
              </a:rPr>
              <a:t>3 PARTS TO STRATEGY 4</a:t>
            </a:r>
            <a:endParaRPr b="0" lang="en-US" sz="48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elf-Assess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 Students make judgments about what they know, have learned, or have master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Justification: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Where students show evidence in their work as rationale for their judgmen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oal-Sett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 Students make a plan for continued learn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 All three do not have to be present at ALL times.. Especially for simpler learning targe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4" descr="C:\Users\mmiddleton.WILLIAMSTOWN\AppData\Local\Microsoft\Windows\Temporary Internet Files\Content.IE5\3VD59Z7L\MC900304915[1].wmf"/>
          <p:cNvPicPr/>
          <p:nvPr/>
        </p:nvPicPr>
        <p:blipFill>
          <a:blip r:embed="rId1"/>
          <a:stretch/>
        </p:blipFill>
        <p:spPr>
          <a:xfrm>
            <a:off x="152280" y="380880"/>
            <a:ext cx="12956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4d75"/>
                </a:solidFill>
                <a:latin typeface="Century Schoolbook"/>
              </a:rPr>
              <a:t>CLASSROOM EXAMPLES.. </a:t>
            </a:r>
            <a:br>
              <a:rPr sz="3600"/>
            </a:br>
            <a:r>
              <a:rPr b="1" lang="en-US" sz="3600" spc="-1" strike="noStrike">
                <a:solidFill>
                  <a:srgbClr val="7f4d75"/>
                </a:solidFill>
                <a:latin typeface="Century Schoolbook"/>
              </a:rPr>
              <a:t>MODELS OF GOOD PRACTICE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28240" y="1752480"/>
            <a:ext cx="8458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ook has lots of examples for helping students with self-assessment and goal setting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ges 100-126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 of examples I have received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specific examples/models of classroom use, I turn it over to Mrs. Drysdale, Mrs. Withorn and Mrs. Cummin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C:\Users\mmiddleton.WILLIAMSTOWN\AppData\Local\Microsoft\Windows\Temporary Internet Files\Content.IE5\3VD59Z7L\MC900092559[1].wmf"/>
          <p:cNvPicPr/>
          <p:nvPr/>
        </p:nvPicPr>
        <p:blipFill>
          <a:blip r:embed="rId1"/>
          <a:stretch/>
        </p:blipFill>
        <p:spPr>
          <a:xfrm>
            <a:off x="2514600" y="5791320"/>
            <a:ext cx="386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be0eb6"/>
                </a:solidFill>
                <a:latin typeface="Century Schoolbook"/>
              </a:rPr>
              <a:t>YOU BE GEORGE</a:t>
            </a:r>
            <a:endParaRPr b="0" lang="en-US" sz="2700" spc="-1" strike="noStrike">
              <a:solidFill>
                <a:srgbClr val="666666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80880" y="304920"/>
          <a:ext cx="8001000" cy="62481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  <a:gridCol w="16002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t it Cor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de a Silly Mista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’t Understand the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a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at’s my r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Rou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Fr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Word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Expanded Fo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Intersec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Perpendicul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Obtuse Ang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Acute Ang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Decim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Patt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True Equ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Fr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Pyramid 3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Tally Ch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Tally Dif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Decimal L-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Decimal G-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Eve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Century Schoolbook"/>
              </a:rPr>
              <a:t>GIVE ONE GET ONE</a:t>
            </a:r>
            <a:endParaRPr b="0" lang="en-US" sz="54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 Narrow"/>
              </a:rPr>
              <a:t>Based on what you read and what you have heard, HOW DO YOU or HOW CAN YOU incorporate Strategy 4 in your classroom?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 Narrow"/>
              </a:rPr>
              <a:t>Take one minute to write down a brief answer(s) to this ques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 Narrow"/>
              </a:rPr>
              <a:t>When I say,  “GO” you are going to mingle with others and Give One of your answers to a person while Getting One from that same pers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4" descr="C:\Users\mmiddleton.WILLIAMSTOWN\AppData\Local\Microsoft\Windows\Temporary Internet Files\Content.IE5\52FX9KK3\MC900355063[1].wmf"/>
          <p:cNvPicPr/>
          <p:nvPr/>
        </p:nvPicPr>
        <p:blipFill>
          <a:blip r:embed="rId1"/>
          <a:stretch/>
        </p:blipFill>
        <p:spPr>
          <a:xfrm>
            <a:off x="2514600" y="5867280"/>
            <a:ext cx="363204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entury Schoolbook"/>
              </a:rPr>
              <a:t>SELF-ASSESSMENT AT WORK </a:t>
            </a:r>
            <a:endParaRPr b="0" lang="en-US" sz="48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880" y="9140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Narrow"/>
              </a:rPr>
              <a:t>Using the Self-Assessment worksheet, rate yourself on your practice in the classroom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ctr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Narrow"/>
              </a:rPr>
              <a:t>Set goals for yourself after reflecting on your progres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4" descr="C:\Users\mmiddleton.WILLIAMSTOWN\AppData\Local\Microsoft\Windows\Temporary Internet Files\Content.IE5\8N4TJ71I\MC900020786[1].wmf"/>
          <p:cNvPicPr/>
          <p:nvPr/>
        </p:nvPicPr>
        <p:blipFill>
          <a:blip r:embed="rId1"/>
          <a:stretch/>
        </p:blipFill>
        <p:spPr>
          <a:xfrm>
            <a:off x="380880" y="5029200"/>
            <a:ext cx="156384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3:59:47Z</dcterms:created>
  <dc:creator>mmiddleton</dc:creator>
  <dc:description/>
  <dc:language>en-US</dc:language>
  <cp:lastModifiedBy>mmiddleton</cp:lastModifiedBy>
  <dcterms:modified xsi:type="dcterms:W3CDTF">2011-02-15T13:58:01Z</dcterms:modified>
  <cp:revision>162</cp:revision>
  <dc:subject/>
  <dc:title>Welcome to the Future SB 1 Implementation Continues</dc:title>
</cp:coreProperties>
</file>